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16ED-20E9-4D3A-81D8-F32FDAFD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6E7F-A833-4694-B766-63C76148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A9AD-7D93-45A2-8B48-AC284A8F7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0922-19CF-40FE-8886-781C1234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7EA9-BFBD-44DA-A6D4-D24CFF3A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190-9FC8-43D8-BF7D-6845D91F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5CB-12CB-49E0-9B74-DDC85AD8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654B-88A7-431B-B226-571C582F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38BF-D22F-4EE3-AF46-0AA59F12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8512-EA6E-4BB8-9811-FF525A79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6B10-1D56-457D-AF7A-C5AA4421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F22-206E-43CA-A7F3-91A111F9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4F84-A9D7-4635-93FB-F19E0D4F3E6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04440" y="404640"/>
            <a:ext cx="36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스마트폰 일반카드 결제 샘플 가이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안드로이드 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11280" y="1628640"/>
          <a:ext cx="7993080" cy="4543560"/>
        </p:xfrm>
        <a:graphic>
          <a:graphicData uri="http://schemas.openxmlformats.org/drawingml/2006/table">
            <a:tbl>
              <a:tblPr/>
              <a:tblGrid>
                <a:gridCol w="1800000"/>
                <a:gridCol w="619308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ample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역변수를 사용하기 위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am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플 처음 실행시 시작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결제와 계좌이체 결제를 선택할 수 있도록 되어있습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Demo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결제를 담당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문자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페이지를 호출하여 결제가 카드결제가 진행되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ISP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과 같은 을 제어한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ntPayDemo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계좌이체 결제를 담당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sultRcv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른 앱에서 되돌아올 때 호출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마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sample’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으로 호출됩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퍼미션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NTERNET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만 선언되었으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안드로이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K 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버전으로 개발되었습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21"/>
          <p:cNvSpPr/>
          <p:nvPr/>
        </p:nvSpPr>
        <p:spPr>
          <a:xfrm>
            <a:off x="513000" y="976320"/>
            <a:ext cx="27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ndroidManifest.xm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2560" y="847800"/>
          <a:ext cx="7993080" cy="571032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 상세설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nCreat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ebView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옵션을 설정하고 업체 주문페이지를 호출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eb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사용하는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옵션기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avePassword(fals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웹페이지 비밀번호 자동저장 하지 않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avaScriptEnabled(tru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자바스크립트 허용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avaScriptCanOpenWindowsAutomatically(tru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자바스크립트를 이용하여 윈도우를 새로 열수 있도록 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Bridge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실행하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설치 되어있지 않으면 설치하도록 유도를 하는 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PinInfoBridg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설치 및 실행을 유도하는 클레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PinReturn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어플 응답값을 확인하는 클레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CardInfoBridge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카드 선택시에만 사용되는 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seWideViewPort(true) : devic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보이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화면을 와이드하게 확대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WebChromeClient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능을 사용할 수 있도록 선언되었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WebViewClient : WebViewClien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상속받아 구현되었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하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판단하여 분기처리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클레스 및 함수 상세 설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_scheme_intent(String url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해당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n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이용하여 호출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WebViewClient : web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서 호출되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메일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화번호는 자동연결을 막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주소를 판단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oad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 방식과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nt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방식으로 나누어 분기처리하여 호출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CardInfoBridge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카드 결제시 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을 호출 전에 카드정보와 결제방식 정보를 전역변수에 저장하고 앱을 호출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Bridge : devic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 설치되어있는 모든 앱을 확인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의 설치여부를 판단하여 설가 되어있으면 앱을 호출하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되어있지 않으면 안드로이드 마켓을 호출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 설치를 유도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inishActivity(String p_strFinishMsg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ctivit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종료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eckFrom() : 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 종료 후 호출되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pproval_ke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값을 전달하여 결제를 진행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etPaypinInfo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어플이 설치 되어 있는지 확인 하는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aypinConfim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설치화면 이동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etConfirm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결제 완료 또는 취소를 확인 하는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nRestar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타 앱에서 복귀했을 때 호출되어 전역클레스에 값이 전달되었는지 확인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ResultRcvActivit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의해 값이 전역클레스에 정상적으로 전달되었을경우에는 결제를 진행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아닌경우에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heckFrom()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함수가 실행되어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제가 정상적으로 처리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40"/>
          <p:cNvSpPr/>
          <p:nvPr/>
        </p:nvSpPr>
        <p:spPr>
          <a:xfrm>
            <a:off x="554760" y="3333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. PayDemoActiv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82560" y="847800"/>
          <a:ext cx="7993080" cy="104148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 상세설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마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sample’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에 의해 호출되며 타앱에서 보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ntent Data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을 전역클레스에 전달한 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끝낸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yApp.b_type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rue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로 만들어야 페이핀 어플에서 값을 받은 걸로 판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40"/>
          <p:cNvSpPr/>
          <p:nvPr/>
        </p:nvSpPr>
        <p:spPr>
          <a:xfrm>
            <a:off x="573120" y="3333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3. ResultRcvActiv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2560" y="847800"/>
          <a:ext cx="7993080" cy="314316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P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얼 변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테스트 결제결과 웹 호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devpggw.kcp.co.kr:81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얼 결제결과 웹 호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서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pggw.kcp.co.k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신서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smpay.kcp.co.k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40"/>
          <p:cNvSpPr/>
          <p:nvPr/>
        </p:nvSpPr>
        <p:spPr>
          <a:xfrm>
            <a:off x="868320" y="3333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개발시 유의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6:59:01Z</dcterms:created>
  <dc:creator>polaris</dc:creator>
  <dc:description/>
  <dc:language>en-US</dc:language>
  <cp:lastModifiedBy>민수</cp:lastModifiedBy>
  <dcterms:modified xsi:type="dcterms:W3CDTF">2013-08-05T06:03:25Z</dcterms:modified>
  <cp:revision>65</cp:revision>
  <dc:subject/>
  <dc:title>슬라이드 1</dc:title>
</cp:coreProperties>
</file>